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BEF0-519B-4602-9D04-93DDFC06F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4E5A-E9D9-4B6A-8438-95D9D2895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AF48-4A09-48AF-A1F4-BE2827764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D1BF-B347-4AC5-8D21-0575BF262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ics def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0387-6DF5-4864-8B30-32906D21A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FCC3-2377-4BCC-AA2C-4B976F94B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8A85-FD04-4CDA-B962-7BB942F2C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7DBD-F1BF-4383-8EE5-632148877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D5ED-30D9-4DE1-A716-D15B51ACC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00D0-FD90-4541-B423-6F1A43B8A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69A3-1C56-4238-B7EB-D4122E18D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85B6-044F-4E27-87F6-0ABF5F63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3F84-6149-4909-AA21-B911FB42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BED3-97E3-4413-AFAF-394D6938B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2B35-3180-43D7-8816-368CB8EA7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47E1-4898-43C0-9A47-051E904B6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62FF-052D-4FC2-8EBD-F346728D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AF4D-5A82-4C1D-A550-753AE9EC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03EA-696C-40AB-B900-7B6BFBE4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8CAD-B6E2-4D9E-81B4-30B7FE84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EAE8-F965-4891-B516-1A63344D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7099-3A72-44DF-871B-1941C816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5543-B3DA-4D32-B505-C5DAF02D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91A0-DAE9-4D61-8198-05BA6587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5B1C-0BB8-4257-90DB-BB316068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EF04-F342-4017-A8D3-D5856D6F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5861-7D67-4FBD-959C-BBC6F1C4A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7652-626D-470C-93CF-279D102F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9AD3-24DF-410A-8F25-95548166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84C0-FF96-4E52-8363-85BAA459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28E8-D336-4811-922E-BF92F3BF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92D1-D201-493A-818E-2E32B536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02E3-45A7-47A9-8477-8E069CB9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7F72-837C-48F2-9195-989E4FE9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7287-5380-4DBC-9DEF-1E583DC1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10DD-3BCA-42C2-BA08-1E7CFA48AA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951F-B495-4991-84BF-C59811A834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usiness-marketing.com/article-businessethics.php" TargetMode="External"/><Relationship Id="rId2" Type="http://schemas.openxmlformats.org/officeDocument/2006/relationships/hyperlink" Target="http://www.youtube.com/watch?v=a2i3VcwJJb0&amp;safe=active" TargetMode="External"/><Relationship Id="rId3" Type="http://schemas.openxmlformats.org/officeDocument/2006/relationships/image" Target="../media/image5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be.org.uk/codesofethics/examples.html" TargetMode="External"/><Relationship Id="rId2" Type="http://schemas.openxmlformats.org/officeDocument/2006/relationships/hyperlink" Target="http://www.ehow.com/how_5982751_develop-personal-code-ethics.html" TargetMode="External"/><Relationship Id="rId3" Type="http://schemas.openxmlformats.org/officeDocument/2006/relationships/image" Target="../media/image6.jpeg"/><Relationship Id="rId4" Type="http://schemas.openxmlformats.org/officeDocument/2006/relationships/slide" Target="slide3.xml"/><Relationship Id="rId5" Type="http://schemas.openxmlformats.org/officeDocument/2006/relationships/hyperlink" Target="http://www.gsk.com/about/downloads/Policy-Code-Conduct.pdf" TargetMode="External"/><Relationship Id="rId6" Type="http://schemas.openxmlformats.org/officeDocument/2006/relationships/hyperlink" Target="http://www.ehow.com/how_5982751_develop-personal-code-ethics.html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loomberg.com/apps/news?pid=20601103&amp;sid=aPDMGOxP0uJQ" TargetMode="External"/><Relationship Id="rId2" Type="http://schemas.openxmlformats.org/officeDocument/2006/relationships/image" Target="../media/image7.jpe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ybercitizenship.org/crime/crime.html" TargetMode="External"/><Relationship Id="rId2" Type="http://schemas.openxmlformats.org/officeDocument/2006/relationships/hyperlink" Target="http://articles.marco.org/218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thicsworld.org/" TargetMode="External"/><Relationship Id="rId2" Type="http://schemas.openxmlformats.org/officeDocument/2006/relationships/hyperlink" Target="http://www.bloomberg.com/apps/news?pid=20601103&amp;sid=aPDMGOxP0uJQ" TargetMode="External"/><Relationship Id="rId3" Type="http://schemas.openxmlformats.org/officeDocument/2006/relationships/hyperlink" Target="http://www.iquestions.com/" TargetMode="External"/><Relationship Id="rId4" Type="http://schemas.openxmlformats.org/officeDocument/2006/relationships/hyperlink" Target="http://www.ibe.org.uk/codesofethics/examples.html%20Accessed%205/23/10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thi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ethical issues influence business decis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4" descr="MM900300590[1]"/>
          <p:cNvPicPr/>
          <p:nvPr/>
        </p:nvPicPr>
        <p:blipFill>
          <a:blip r:embed="rId1"/>
          <a:stretch/>
        </p:blipFill>
        <p:spPr>
          <a:xfrm>
            <a:off x="4057560" y="2909880"/>
            <a:ext cx="102888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tegrity is doing the right thing, even if nobody is watching.”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-Jim Stov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MS903169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609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thi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moral principles by which people conduct themselves, personally, socially, or profession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ethics"/>
          <p:cNvPicPr/>
          <p:nvPr/>
        </p:nvPicPr>
        <p:blipFill>
          <a:blip r:embed="rId1"/>
          <a:stretch/>
        </p:blipFill>
        <p:spPr>
          <a:xfrm>
            <a:off x="4871880" y="2311560"/>
            <a:ext cx="381492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thical Issu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iness Ethical Dilem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place Eth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de of Eth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ancial Ethic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yber Ethic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>
            <a:hlinkClick r:id="" action="ppaction://hlinkshowjump?jump=nextslide"/>
          </p:cNvPr>
          <p:cNvSpPr/>
          <p:nvPr/>
        </p:nvSpPr>
        <p:spPr>
          <a:xfrm>
            <a:off x="5943600" y="175248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>
            <a:hlinkClick r:id="rId1" action="ppaction://hlinksldjump"/>
          </p:cNvPr>
          <p:cNvSpPr/>
          <p:nvPr/>
        </p:nvSpPr>
        <p:spPr>
          <a:xfrm>
            <a:off x="4572000" y="220968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>
            <a:hlinkClick r:id="rId2" action="ppaction://hlinksldjump"/>
          </p:cNvPr>
          <p:cNvSpPr/>
          <p:nvPr/>
        </p:nvSpPr>
        <p:spPr>
          <a:xfrm>
            <a:off x="4267080" y="266688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>
            <a:hlinkClick r:id="rId3" action="ppaction://hlinksldjump"/>
          </p:cNvPr>
          <p:cNvSpPr/>
          <p:nvPr/>
        </p:nvSpPr>
        <p:spPr>
          <a:xfrm>
            <a:off x="4267080" y="3200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9">
            <a:hlinkClick r:id="rId4" action="ppaction://hlinksldjump"/>
          </p:cNvPr>
          <p:cNvSpPr/>
          <p:nvPr/>
        </p:nvSpPr>
        <p:spPr>
          <a:xfrm>
            <a:off x="4038480" y="37339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usiness Ethical Dilemm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ke and Reebok, outsource the manufacturing of their shoes to other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roduction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 righ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responsibil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obligations do Nike and Reebok have in regards to these human rights and corporate responsibilit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untitled"/>
          <p:cNvPicPr/>
          <p:nvPr/>
        </p:nvPicPr>
        <p:blipFill>
          <a:blip r:embed="rId1"/>
          <a:stretch/>
        </p:blipFill>
        <p:spPr>
          <a:xfrm>
            <a:off x="5376960" y="2209680"/>
            <a:ext cx="2662200" cy="228924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10">
            <a:hlinkClick r:id="rId2" action="ppaction://hlinksldjump"/>
          </p:cNvPr>
          <p:cNvSpPr/>
          <p:nvPr/>
        </p:nvSpPr>
        <p:spPr>
          <a:xfrm>
            <a:off x="8077320" y="6019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MS900437903[1].wav" descr=""/>
          <p:cNvPicPr/>
          <p:nvPr/>
        </p:nvPicPr>
        <p:blipFill>
          <a:blip r:embed="rId3"/>
          <a:stretch/>
        </p:blipFill>
        <p:spPr>
          <a:xfrm>
            <a:off x="6477120" y="3200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534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orkplace ethi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thical Dilem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place eth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Business Ethics in the Work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Ethics in the Workplace Vid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ethics-pic1"/>
          <p:cNvPicPr/>
          <p:nvPr/>
        </p:nvPicPr>
        <p:blipFill>
          <a:blip r:embed="rId3"/>
          <a:stretch/>
        </p:blipFill>
        <p:spPr>
          <a:xfrm>
            <a:off x="5303880" y="1752480"/>
            <a:ext cx="2698560" cy="241308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5">
            <a:hlinkClick r:id="rId4" action="ppaction://hlinksldjump"/>
          </p:cNvPr>
          <p:cNvSpPr/>
          <p:nvPr/>
        </p:nvSpPr>
        <p:spPr>
          <a:xfrm>
            <a:off x="7772400" y="556272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12525" y="3837"/>
                </a:moveTo>
                <a:lnTo>
                  <a:pt x="15101" y="6448"/>
                </a:lnTo>
                <a:lnTo>
                  <a:pt x="15101" y="4707"/>
                </a:lnTo>
                <a:lnTo>
                  <a:pt x="16877" y="4707"/>
                </a:lnTo>
                <a:lnTo>
                  <a:pt x="16877" y="8224"/>
                </a:lnTo>
                <a:lnTo>
                  <a:pt x="19488" y="10800"/>
                </a:lnTo>
                <a:lnTo>
                  <a:pt x="17834" y="10800"/>
                </a:lnTo>
                <a:lnTo>
                  <a:pt x="17834" y="17989"/>
                </a:lnTo>
                <a:lnTo>
                  <a:pt x="7216" y="17989"/>
                </a:lnTo>
                <a:lnTo>
                  <a:pt x="7216" y="10800"/>
                </a:lnTo>
                <a:lnTo>
                  <a:pt x="5562" y="10800"/>
                </a:lnTo>
                <a:close/>
              </a:path>
              <a:path fill="darkenLess" w="25050" h="21600">
                <a:moveTo>
                  <a:pt x="15101" y="6448"/>
                </a:moveTo>
                <a:lnTo>
                  <a:pt x="15101" y="4707"/>
                </a:lnTo>
                <a:lnTo>
                  <a:pt x="16877" y="4707"/>
                </a:lnTo>
                <a:lnTo>
                  <a:pt x="16877" y="8224"/>
                </a:lnTo>
                <a:close/>
              </a:path>
              <a:path fill="darkenLess" w="25050" h="21600">
                <a:moveTo>
                  <a:pt x="11602" y="14299"/>
                </a:moveTo>
                <a:lnTo>
                  <a:pt x="13448" y="14299"/>
                </a:lnTo>
                <a:lnTo>
                  <a:pt x="13448" y="17989"/>
                </a:lnTo>
                <a:lnTo>
                  <a:pt x="17834" y="17989"/>
                </a:lnTo>
                <a:lnTo>
                  <a:pt x="17834" y="10800"/>
                </a:lnTo>
                <a:lnTo>
                  <a:pt x="7216" y="10800"/>
                </a:lnTo>
                <a:lnTo>
                  <a:pt x="7216" y="17989"/>
                </a:lnTo>
                <a:lnTo>
                  <a:pt x="11602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ode of Ethics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e Code of Et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Institute of Business Eth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Code of Et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How to Develop a Personal Code of Ethic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imagescode"/>
          <p:cNvPicPr/>
          <p:nvPr/>
        </p:nvPicPr>
        <p:blipFill>
          <a:blip r:embed="rId3"/>
          <a:stretch/>
        </p:blipFill>
        <p:spPr>
          <a:xfrm>
            <a:off x="5664240" y="1905120"/>
            <a:ext cx="2590920" cy="259380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6">
            <a:hlinkClick r:id="rId4" action="ppaction://hlinksldjump"/>
          </p:cNvPr>
          <p:cNvSpPr/>
          <p:nvPr/>
        </p:nvSpPr>
        <p:spPr>
          <a:xfrm>
            <a:off x="7696080" y="54864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12525" y="3837"/>
                </a:moveTo>
                <a:lnTo>
                  <a:pt x="15101" y="6448"/>
                </a:lnTo>
                <a:lnTo>
                  <a:pt x="15101" y="4707"/>
                </a:lnTo>
                <a:lnTo>
                  <a:pt x="16877" y="4707"/>
                </a:lnTo>
                <a:lnTo>
                  <a:pt x="16877" y="8224"/>
                </a:lnTo>
                <a:lnTo>
                  <a:pt x="19488" y="10800"/>
                </a:lnTo>
                <a:lnTo>
                  <a:pt x="17834" y="10800"/>
                </a:lnTo>
                <a:lnTo>
                  <a:pt x="17834" y="17989"/>
                </a:lnTo>
                <a:lnTo>
                  <a:pt x="7216" y="17989"/>
                </a:lnTo>
                <a:lnTo>
                  <a:pt x="7216" y="10800"/>
                </a:lnTo>
                <a:lnTo>
                  <a:pt x="5562" y="10800"/>
                </a:lnTo>
                <a:close/>
              </a:path>
              <a:path fill="darkenLess" w="25050" h="21600">
                <a:moveTo>
                  <a:pt x="15101" y="6448"/>
                </a:moveTo>
                <a:lnTo>
                  <a:pt x="15101" y="4707"/>
                </a:lnTo>
                <a:lnTo>
                  <a:pt x="16877" y="4707"/>
                </a:lnTo>
                <a:lnTo>
                  <a:pt x="16877" y="8224"/>
                </a:lnTo>
                <a:close/>
              </a:path>
              <a:path fill="darkenLess" w="25050" h="21600">
                <a:moveTo>
                  <a:pt x="11602" y="14299"/>
                </a:moveTo>
                <a:lnTo>
                  <a:pt x="13448" y="14299"/>
                </a:lnTo>
                <a:lnTo>
                  <a:pt x="13448" y="17989"/>
                </a:lnTo>
                <a:lnTo>
                  <a:pt x="17834" y="17989"/>
                </a:lnTo>
                <a:lnTo>
                  <a:pt x="17834" y="10800"/>
                </a:lnTo>
                <a:lnTo>
                  <a:pt x="7216" y="10800"/>
                </a:lnTo>
                <a:lnTo>
                  <a:pt x="7216" y="17989"/>
                </a:lnTo>
                <a:lnTo>
                  <a:pt x="11602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914400" y="1600200"/>
            <a:ext cx="38149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e Code of Et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Institute of Business Ethics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GlaxoSmithK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Code of Et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How to Develop a Personal Code of Ethic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inancial Ethi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nie Mad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Bernard Madoff Gets 150 Years in Jail for Epic Fraud (Update7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data"/>
          <p:cNvPicPr/>
          <p:nvPr/>
        </p:nvPicPr>
        <p:blipFill>
          <a:blip r:embed="rId2"/>
          <a:stretch/>
        </p:blipFill>
        <p:spPr>
          <a:xfrm>
            <a:off x="4876920" y="2362320"/>
            <a:ext cx="3814560" cy="303192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12">
            <a:hlinkClick r:id="rId3" action="ppaction://hlinksldjump"/>
          </p:cNvPr>
          <p:cNvSpPr/>
          <p:nvPr/>
        </p:nvSpPr>
        <p:spPr>
          <a:xfrm>
            <a:off x="7696080" y="581508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12525" y="3837"/>
                </a:moveTo>
                <a:lnTo>
                  <a:pt x="15101" y="6448"/>
                </a:lnTo>
                <a:lnTo>
                  <a:pt x="15101" y="4707"/>
                </a:lnTo>
                <a:lnTo>
                  <a:pt x="16877" y="4707"/>
                </a:lnTo>
                <a:lnTo>
                  <a:pt x="16877" y="8224"/>
                </a:lnTo>
                <a:lnTo>
                  <a:pt x="19488" y="10800"/>
                </a:lnTo>
                <a:lnTo>
                  <a:pt x="17834" y="10800"/>
                </a:lnTo>
                <a:lnTo>
                  <a:pt x="17834" y="17989"/>
                </a:lnTo>
                <a:lnTo>
                  <a:pt x="7216" y="17989"/>
                </a:lnTo>
                <a:lnTo>
                  <a:pt x="7216" y="10800"/>
                </a:lnTo>
                <a:lnTo>
                  <a:pt x="5562" y="10800"/>
                </a:lnTo>
                <a:close/>
              </a:path>
              <a:path fill="darkenLess" w="25050" h="21600">
                <a:moveTo>
                  <a:pt x="15101" y="6448"/>
                </a:moveTo>
                <a:lnTo>
                  <a:pt x="15101" y="4707"/>
                </a:lnTo>
                <a:lnTo>
                  <a:pt x="16877" y="4707"/>
                </a:lnTo>
                <a:lnTo>
                  <a:pt x="16877" y="8224"/>
                </a:lnTo>
                <a:close/>
              </a:path>
              <a:path fill="darkenLess" w="25050" h="21600">
                <a:moveTo>
                  <a:pt x="11602" y="14299"/>
                </a:moveTo>
                <a:lnTo>
                  <a:pt x="13448" y="14299"/>
                </a:lnTo>
                <a:lnTo>
                  <a:pt x="13448" y="17989"/>
                </a:lnTo>
                <a:lnTo>
                  <a:pt x="17834" y="17989"/>
                </a:lnTo>
                <a:lnTo>
                  <a:pt x="17834" y="10800"/>
                </a:lnTo>
                <a:lnTo>
                  <a:pt x="7216" y="10800"/>
                </a:lnTo>
                <a:lnTo>
                  <a:pt x="7216" y="17989"/>
                </a:lnTo>
                <a:lnTo>
                  <a:pt x="11602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MS903169.wav" descr=""/>
          <p:cNvPicPr/>
          <p:nvPr/>
        </p:nvPicPr>
        <p:blipFill>
          <a:blip r:embed="rId4"/>
          <a:stretch/>
        </p:blipFill>
        <p:spPr>
          <a:xfrm>
            <a:off x="8229600" y="4876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813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yber Ethi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The Cyber Citizen Partner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epartment of Justice categorizes computer crime in three way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mputer as a targ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ttacking the computers of others (spreading viruses is an example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mputer as a wea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ing a computer to commit "traditional crime" that we see in the physical world (such as fraud or illegal gambling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mputer as an accesso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ing a computer as a "fancy filing cabinet" to store illegal or stolen inform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The Ethics of Music 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MP900387725[2]"/>
          <p:cNvPicPr/>
          <p:nvPr/>
        </p:nvPicPr>
        <p:blipFill>
          <a:blip r:embed="rId3"/>
          <a:stretch/>
        </p:blipFill>
        <p:spPr>
          <a:xfrm>
            <a:off x="5016600" y="2057400"/>
            <a:ext cx="3454200" cy="26128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3"/>
          <p:cNvSpPr/>
          <p:nvPr/>
        </p:nvSpPr>
        <p:spPr>
          <a:xfrm>
            <a:off x="6324480" y="6248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nesty” by Billy Jo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orks Cite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thics World </a:t>
            </a:r>
            <a:r>
              <a:rPr b="0" lang="en-US" sz="12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www.ethicsworld.org/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ccessed 5/23/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 Glovin, Patricia Hurtado and Thom Weidlich Bernard Madoff Gets 150 Years in Jail for Epic Fraud </a:t>
            </a:r>
            <a:r>
              <a:rPr b="0" lang="en-US" sz="12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http://www.bloomberg.com/apps/news?pid=20601103&amp;sid=aPDMGOxP0uJQ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ed 5/23/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handle workplace ethics situations. Yahoo Videos, Apr 21, 2009  </a:t>
            </a:r>
            <a:r>
              <a:rPr b="0" lang="en-US" sz="12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www.iquestions.c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ed 5/23/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e of Business Ethics. </a:t>
            </a:r>
            <a:r>
              <a:rPr b="0" lang="en-US" sz="12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http://www.ibe.org.uk/codesofethics/examples.html Accessed 5/23/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ron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Ho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ng Writer. “How to develop a personal code of ethics” http://www.ehow.com/how_5982751_develop-personal-code-ethics.html Accessed 5/23/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ber Citizen Partnership </a:t>
            </a:r>
            <a:r>
              <a:rPr b="0" lang="en-US" sz="1200" spc="-1" strike="noStrike">
                <a:solidFill>
                  <a:srgbClr val="0066cc"/>
                </a:solidFill>
                <a:latin typeface="Arial"/>
              </a:rPr>
              <a:t>http://www.cybercitizenship.or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 Accessed 5/23/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thics of Music Sharing </a:t>
            </a:r>
            <a:r>
              <a:rPr b="0" lang="en-US" sz="1200" spc="-1" strike="noStrike">
                <a:solidFill>
                  <a:srgbClr val="990033"/>
                </a:solidFill>
                <a:latin typeface="Arial"/>
              </a:rPr>
              <a:t>http://articles.marco.org/2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ed 5/23/10, Accessed 5/23/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VD “Business Ethics on the Job: and reproducible activities, Human Relations Media. Mount Kisco, NY. www.hrmvideo.com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BN 1-55548-164-7. LHS Media Center 3057000015752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286000" y="2719440"/>
            <a:ext cx="457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6T15:44:09Z</dcterms:created>
  <dc:creator>HP Authorized Customer</dc:creator>
  <dc:description/>
  <dc:language>en-US</dc:language>
  <cp:lastModifiedBy>Giordano, Antoinette</cp:lastModifiedBy>
  <dcterms:modified xsi:type="dcterms:W3CDTF">2013-06-04T12:37:04Z</dcterms:modified>
  <cp:revision>57</cp:revision>
  <dc:subject/>
  <dc:title>Slide 1</dc:title>
</cp:coreProperties>
</file>